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A35-5D85-47F1-8AEE-1536B3A2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EFC-B481-421E-BB4B-48E18D46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620-36E0-41DB-8AA6-8A65D026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68D-A1BB-4222-896B-89E692B5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C88-4580-45A1-BD25-E9A79705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FAC-392D-46AC-8434-7F5BE5C9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518-46AD-4189-8175-D87DCB6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34E-2D4F-481A-BEB1-DCAB9D45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B7B-568B-4279-8A9B-0DD8AC03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E1C-6C3C-4B68-902C-A56B08B7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B11-74FB-4DB0-ABAE-BC07D762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6AC-1076-4044-9D5F-140A9A0A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9B82-8915-43C9-A78D-C6BEDEB62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50states.com/montana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bensguide.gpo.gov/3-5/state/montana.html" TargetMode="External"/><Relationship Id="rId4" Type="http://schemas.openxmlformats.org/officeDocument/2006/relationships/hyperlink" Target="http://unimaps.com/flags-us-state/montana-print2.html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ostcardsfrom.com/t1/980917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34320" y="5410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5253120"/>
            <a:ext cx="1447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52480" y="1600200"/>
            <a:ext cx="84582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Impact"/>
              </a:rPr>
              <a:t>Mont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33336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6019920"/>
            <a:ext cx="3657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nta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0-7-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0states.com/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609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920"/>
            <a:ext cx="64771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name: Mo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: He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 9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ed the Union: November 18, 1889/ 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o y Pl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ld and sil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Treasur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Bitter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Western Meadow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Mont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Montana is based on the Latin or Spanish word for mountain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739152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elry: Yogo Sapphire and Ag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 code: 4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Largest Cities in Montana - Billings, Missoula &amp; Great Fa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explored by Lewis and Clark in 1805 and 18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the State covers 147046 square m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20766600">
            <a:off x="380880" y="609480"/>
            <a:ext cx="4648320" cy="3098880"/>
          </a:xfrm>
          <a:prstGeom prst="rect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52" name="" descr="Montana: Map and State Flag"/>
          <p:cNvPicPr/>
          <p:nvPr/>
        </p:nvPicPr>
        <p:blipFill>
          <a:blip r:embed="rId2"/>
          <a:srcRect l="0" t="52641" r="-745" b="0"/>
          <a:stretch/>
        </p:blipFill>
        <p:spPr>
          <a:xfrm>
            <a:off x="5562720" y="3505320"/>
            <a:ext cx="335268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5715000"/>
            <a:ext cx="5181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Facts: Learn About Your Stat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Montan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2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montan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5720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Maps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flag of Mont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2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unimaps.com/flags-us-state/montana-print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Mincho"/>
              </a:rPr>
              <a:t>This is a picture of </a:t>
            </a:r>
            <a:r>
              <a:rPr b="1" lang="en-US" sz="2400" spc="-1" strike="noStrike">
                <a:solidFill>
                  <a:srgbClr val="009999"/>
                </a:solidFill>
                <a:latin typeface="MS Mincho"/>
              </a:rPr>
              <a:t>Montana’s flag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819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gency FB"/>
              </a:rPr>
              <a:t>This is a picture of the outline of th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1911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5867280" y="2971800"/>
            <a:ext cx="609840" cy="533520"/>
          </a:xfrm>
          <a:custGeom>
            <a:avLst/>
            <a:gdLst>
              <a:gd name="textAreaLeft" fmla="*/ 203400 w 609840"/>
              <a:gd name="textAreaRight" fmla="*/ 522360 w 60984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80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312408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ll images Copyright © 1997 - 2000 WriteLine. All Rights Reserved. General Thomas Meag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Bradley Hand ITC"/>
              </a:rPr>
              <a:t>This is the state capitol of Montana</a:t>
            </a: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6674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3ec2"/>
                </a:solidFill>
                <a:latin typeface="MS Mincho"/>
              </a:rPr>
              <a:t>Postcards from America, </a:t>
            </a:r>
            <a:r>
              <a:rPr b="1" lang="en-US" sz="1800" spc="-1" strike="noStrike" u="sng">
                <a:solidFill>
                  <a:srgbClr val="b93ec2"/>
                </a:solidFill>
                <a:uFillTx/>
                <a:latin typeface="MS Mincho"/>
              </a:rPr>
              <a:t>Helena, MT,</a:t>
            </a:r>
            <a:r>
              <a:rPr b="1" lang="en-US" sz="1800" spc="-1" strike="noStrike">
                <a:solidFill>
                  <a:srgbClr val="b93ec2"/>
                </a:solidFill>
                <a:latin typeface="MS Mincho"/>
              </a:rPr>
              <a:t> 9/23/10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091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5181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19:54Z</dcterms:created>
  <dc:creator>install</dc:creator>
  <dc:description/>
  <dc:language>en-US</dc:language>
  <cp:lastModifiedBy>install</cp:lastModifiedBy>
  <dcterms:modified xsi:type="dcterms:W3CDTF">2010-10-14T15:21:19Z</dcterms:modified>
  <cp:revision>13</cp:revision>
  <dc:subject/>
  <dc:title>Slide 1</dc:title>
</cp:coreProperties>
</file>